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1D749-A827-42D0-958A-8445625C602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59435-4DC1-4B9A-A144-FDBCFE89D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2C10B-DF34-439C-83C8-D02C08C3F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ECFC0-4CCE-4A80-A454-ADF509DF867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54F17-A780-4C1A-83D8-CF57A2EA4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3F443-40ED-4097-8476-ECBAFDCD0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26785-2847-40B0-AFD8-566548770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EB024-7797-4C09-902E-A0891B1D2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811DB-86AD-4CAD-93E8-3184CC761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5BFA4-01D2-49CF-897B-92B7D60FA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87CB8-3391-4E49-820F-B24446188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449B9-7187-4025-8CB1-6DBCD9CF3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7DABD-E3C4-4637-9D7F-DDDC9BF49AF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58560" y="2276640"/>
            <a:ext cx="6769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肿瘤消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经肝动脉和（或）门静脉区域化疗或经肝动脉化疗栓塞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ranscatheter arterial chemoembolization,TAC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治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放射治疗、免疫治疗、中医中药治疗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4-1 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原发性肝癌，行半肝切除术和术后化疗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术后可能会出现哪些并发症？②如何观察及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肿瘤迅速生长导致肝被膜张力增加或放疗、化疗后的不适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失调（低于机体需要量） 与食欲缺乏、恶心、呕吐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焦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感性悲哀 与担忧疾病和生存期限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出血，肝性脑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患者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全身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凝血功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患者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与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性脑病预防及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动脉化疗栓塞患者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疗前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疗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导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妥善固定和维护导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严格遵守无菌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为防止导管阻塞，注药后用肝素稀释液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5U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∕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m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m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冲洗导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动脉化疗栓塞患者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疗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栓塞后综合征的观察及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发热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恶心、呕吐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白细胞减少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肝、肾功能损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拔管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指导健康人注意防治肝炎，不吃霉变食物，不饮用污染水源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肝癌患者术后应注意休息，避免劳累。保持排便通畅，防止便秘，可适当食用缓泻剂，预防血氨升高。多食营养丰富和富含维生素的事物，以清淡、易消化为宜，如有腹水、水肿者应避免食用过多的盐。定期复查。一旦出现水肿、体重减轻、出血倾向、黄疸、疲乏等症状及时就诊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原发性肝癌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不明，相关因素有肝炎、肝硬化史；饮食和生活习惯，有进食含黄曲霉菌的食品、有亚硝胺类致癌物的接触史等；家族史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肝大，有肝区压痛、上腹部肿块，有黄疸、腹水等体征，血清甲胎蛋白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AFP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测定阳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早期实行手术切除仍是最有效的治疗方法，辅以肿瘤消融、经肝动脉和（或）门静脉区域化疗或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ACE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、放疗、免疫治疗、中医中药治疗等综合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加强心理支持，减轻或有效缓解疼痛，改善营养状况，术后加强并发症的预防和护理，坚持后续治疗。指导健康人注意防治肝炎，不吃霉变食物，不饮不洁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原发性肝癌发病的相关因素、常用的辅助检查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原发性肝癌的典型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血清甲胎蛋白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F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测定对确诊原发性肝癌的意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原发性肝癌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发性肝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rimary liver cancer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指发生于肝细胞和肝内胆管细胞上的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发性肝癌的病因尚未明确，可能与病毒性肝炎、肝硬化、黄曲霉素、亚硝胺类致癌物、水土等因素密切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发性肝癌按大体类型分为结节型、巨块型、弥漫型三类，以结节型最多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4-1 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因右上腹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余天入院。患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前无明显诱因出现右上腹疼痛，呈持续性钝痛，以夜间为明显，疼痛不向肩背部放射，不伴有发热及恶心、呕吐等表现。门诊查甲胎蛋白明显升高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检查发现肝有占位性病变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检查考虑肝癌。患者自发病以来上腹疼痛逐渐加重，且出现乏力、腹胀、食欲下降，体重下降约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k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患者既往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余年的乙型肝炎病史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肝区疼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最常见和最主要的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消化道症状和全身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肝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为中、晚期肝癌的主要临床体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其他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可有癌旁综合征的表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甲胎蛋白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lpha-fetoprotei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F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测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酶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功能及乙肝抗体系统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980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是目前肝癌定位检查中首选的一种方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选择性腹腔动脉或肝动脉造影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穿刺活组织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腔镜探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患者的年龄和性别，是否居住于肝癌高发区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患者有无肝炎、肝硬化病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患者的饮食和生活习惯，有无进食含黄曲霉菌的食品、饮用被污染的水源，以及有无亚硝胺类致癌物的接触史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患者有无长期、滥用药物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家族中有无肝癌或其他肿瘤病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切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是目前治疗肝癌最为有效的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式的选择应根据患者全身情况、肝硬变程度、肿瘤大小和部位以及肝代偿功能等而定，主要有肝部分切除术、肝叶切除术或半肝切除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0:33:06Z</dcterms:modified>
  <cp:revision>112</cp:revision>
  <dc:subject/>
  <dc:title>内科护理学</dc:title>
</cp:coreProperties>
</file>